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A728-64FC-4B58-BEFD-E22C8291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9643-F704-4113-BE9B-BD2112EA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9D47-D1BB-4905-996F-1F958924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4231-F9AA-4AB2-8500-98577A8B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2E61-8A77-4C27-A64B-F0621404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486C-6E21-4E0F-9EF4-3D84E10E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0B55-A2FB-4A50-AA91-08A7F18A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DA5-F670-4025-81CA-59B4736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1F48-55F2-45A2-930E-81991F66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EB28-C983-435E-93D4-BC45C285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D276-7F32-49E6-866C-E11F59C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9714-094B-4BD1-B706-1FBECB7A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2845-2C11-4DBA-90F4-7DE572EB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37F2-F6E1-42CF-A832-F4E3F7DB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BA40-912A-4948-AA99-9DC5157A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045C-ACCA-4C75-8611-EBDD6F9A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289C-9702-4E8F-AD74-7814EF7C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060B-4EF5-4181-8E3A-562BB98F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8F36-E0D1-44B2-8ADC-7D35E3A6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3DC4-D3DB-40AD-8B27-FAF6445D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0A8E-13DE-478F-8C35-3638C080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44C8-A4D7-4371-AEAF-DB849C9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7ED4-03C3-49CF-8078-6AE9DA11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71AB-C41B-49A3-B03A-2FEEBDC2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938-87B1-4F49-A2AE-CC92BF3D98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4CF5-ED96-4FB3-8489-30F25FF269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Command &amp; Conquer Generals Zero Hou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3500280"/>
          <a:ext cx="4140000" cy="310536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tin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erry (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s (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hijs (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nny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 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ico (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bby (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ederik (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land (1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ander (1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uud (1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213120" y="286236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elnem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52200" y="1805040"/>
            <a:ext cx="48960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rste ronde:</a:t>
            </a: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Map: Tournament Islands</a:t>
            </a: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2 vs 2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148360" y="3486240"/>
          <a:ext cx="1035000" cy="317160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516720" y="3497400"/>
          <a:ext cx="1035000" cy="317160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885080" y="3500280"/>
          <a:ext cx="1035000" cy="3171960"/>
        </p:xfrm>
        <a:graphic>
          <a:graphicData uri="http://schemas.openxmlformats.org/drawingml/2006/table">
            <a:tbl>
              <a:tblPr/>
              <a:tblGrid>
                <a:gridCol w="51768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18440" y="2308320"/>
            <a:ext cx="39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anvang vanaf: 13: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24000" y="333360"/>
          <a:ext cx="8569080" cy="6159600"/>
        </p:xfrm>
        <a:graphic>
          <a:graphicData uri="http://schemas.openxmlformats.org/drawingml/2006/table">
            <a:tbl>
              <a:tblPr/>
              <a:tblGrid>
                <a:gridCol w="1436400"/>
                <a:gridCol w="1646280"/>
                <a:gridCol w="1808280"/>
                <a:gridCol w="1633680"/>
                <a:gridCol w="2044440"/>
              </a:tblGrid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elnemer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erste ronde</a:t>
                      </a:r>
                      <a:br>
                        <a:rPr sz="2300"/>
                      </a:br>
                      <a:r>
                        <a:rPr b="0" lang="nl-NL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max =3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weede ronde</a:t>
                      </a:r>
                      <a:br>
                        <a:rPr sz="2300"/>
                      </a:br>
                      <a:r>
                        <a:rPr b="0" lang="nl-NL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max = 3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rde rond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max = 3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taal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Max = 9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505800" y="6438960"/>
            <a:ext cx="83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otaal gelijk spelen = rondje extra met elk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09:17:35Z</dcterms:created>
  <dc:creator>Laptop</dc:creator>
  <dc:description/>
  <dc:language>en-US</dc:language>
  <cp:lastModifiedBy>Laptop</cp:lastModifiedBy>
  <dcterms:modified xsi:type="dcterms:W3CDTF">2005-06-18T19:21:38Z</dcterms:modified>
  <cp:revision>3</cp:revision>
  <dc:subject/>
  <dc:title>Command &amp; Conquer Generals Zero Hour</dc:title>
</cp:coreProperties>
</file>